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media/image4.png" ContentType="image/pn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CDC-9C71-4160-943E-D899DD53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F13A-2C31-4C30-AA21-600094E7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8F84-ED9A-4561-B025-B98A6A06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C0C4-B217-419A-A4A6-402F9950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9C51-CCC7-4D7E-9451-14F089B4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B570-7FE2-4B3B-976D-F8011C8D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472A-25DD-42BC-9DC7-3843F708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BFC7-1935-4B72-A146-438CF545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6035-4FF9-45A5-B6AA-1FB2B4EB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97B8-05A3-4062-8C07-4FBCB1F4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C392-4836-41BA-B859-CBBB19C2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5EC1-8BEA-4336-937D-A7C701F0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D537-171A-46C6-973E-1EB7BF20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113F-EBE8-41F1-AA1F-22EBA384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B4BE-00C4-4A9C-B2A9-46C860B5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C26F-D10D-45BB-AD19-7B6DF656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30CB-B10C-47B8-A7EF-628132B3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06DE-DFC2-42E6-986D-5E01FC93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ED49-2E16-4C0E-B10C-27AA3104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1F2-BC17-40BE-984C-C5B25DBD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DA0B-8244-4401-89AC-AEA7230B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834-DD64-46F2-B6D5-48430E4C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8670-C7B8-4A8C-A45D-DD35C07A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BA6-E788-4304-807D-417C7BD2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A86F-3E29-4A69-8833-45CC4B6EE4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A373-7272-4D01-AC5F-DB60FC4ACF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4080"/>
              </a:buClr>
              <a:buFont typeface="Wingdings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4080"/>
              </a:buClr>
              <a:buFont typeface="Wingdings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4080"/>
              </a:buClr>
              <a:buFont typeface="Wingdings" charset="2"/>
              <a:buChar char="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20426400">
            <a:off x="3048120" y="2209320"/>
            <a:ext cx="2590560" cy="13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94f07"/>
                </a:solidFill>
                <a:uFillTx/>
                <a:latin typeface="Impact"/>
              </a:rPr>
              <a:t>Burns</a:t>
            </a:r>
            <a:endParaRPr b="0" i="1" lang="en-US" sz="6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7010280" y="30481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438280" y="3962520"/>
            <a:ext cx="4114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First Degree Burns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urn in which only the outer layer of skin is burned and turn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heals quick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type of first degree burn is sunbur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Second Degree Burn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rious burn in which the burned area blist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intense redness, pain, and swell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burn usually heals without scar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67280" y="4495680"/>
            <a:ext cx="2273400" cy="1600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384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Third Degree Burn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ery serious burn in which deep layers of skin and nerve endings are damag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rned areas may be white or char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in will be inte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31370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7:44Z</dcterms:created>
  <dc:creator>Kraybill Campus LMS</dc:creator>
  <dc:description/>
  <dc:language>en-US</dc:language>
  <cp:lastModifiedBy>Kraybill Campus LMS</cp:lastModifiedBy>
  <dcterms:modified xsi:type="dcterms:W3CDTF">2011-05-25T16:02:44Z</dcterms:modified>
  <cp:revision>4</cp:revision>
  <dc:subject/>
  <dc:title>Burns</dc:title>
</cp:coreProperties>
</file>